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B55-17C7-4639-AEE0-F2DBE92F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C65-BAE4-4FDA-BA0B-86B5C30A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651-F36E-4947-AFBF-35CBE718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491-8926-4E27-86F2-4FB1DF2F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853-EB07-40B9-940F-B7C35E15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E12-2923-406B-9A55-F8818FAB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39C-2231-47FC-BA6F-5B3BF6D2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B5E-AC25-4125-9AB6-34CC1215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598-45FE-46E7-A10D-77837BB4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276-1F15-45B2-8E01-6C57E235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C97-5ECE-4270-B7BB-2D081507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587-A1BE-4922-B621-97569C46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163A-5248-44EA-9332-735359E86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7;&#1086;&#1082;&#1086;&#1083;&#1100;&#1085;&#1080;&#1082;&#1086;&#1074;&#1072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0240" y="1143000"/>
            <a:ext cx="48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квадратное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5"/>
          <a:stretch/>
        </p:blipFill>
        <p:spPr>
          <a:xfrm>
            <a:off x="1071720" y="2714760"/>
            <a:ext cx="2867040" cy="48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6"/>
          <a:stretch/>
        </p:blipFill>
        <p:spPr>
          <a:xfrm>
            <a:off x="6072120" y="2714760"/>
            <a:ext cx="2867040" cy="485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7"/>
          <a:stretch/>
        </p:blipFill>
        <p:spPr>
          <a:xfrm>
            <a:off x="1857240" y="3571920"/>
            <a:ext cx="1200240" cy="866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8"/>
          <a:stretch/>
        </p:blipFill>
        <p:spPr>
          <a:xfrm>
            <a:off x="7215120" y="3571920"/>
            <a:ext cx="542880" cy="857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93"/>
          <p:cNvSpPr/>
          <p:nvPr/>
        </p:nvSpPr>
        <p:spPr>
          <a:xfrm>
            <a:off x="1785960" y="3571920"/>
            <a:ext cx="128592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8"/>
          <p:cNvSpPr/>
          <p:nvPr/>
        </p:nvSpPr>
        <p:spPr>
          <a:xfrm>
            <a:off x="6786720" y="3571920"/>
            <a:ext cx="128556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6:43Z</dcterms:created>
  <dc:creator>Admin</dc:creator>
  <dc:description/>
  <dc:language>en-US</dc:language>
  <cp:lastModifiedBy>Admin</cp:lastModifiedBy>
  <dcterms:modified xsi:type="dcterms:W3CDTF">2004-01-01T00:17:10Z</dcterms:modified>
  <cp:revision>2</cp:revision>
  <dc:subject/>
  <dc:title>Слайд 1</dc:title>
</cp:coreProperties>
</file>